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6502-A978-4695-B4A1-927FB272D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transduction  - transmitting a signal from outside the cell to the cell nucleus, like receiving a hormone which triggers a receptor on the inside of the cell that then signals to the nucleus that a protein must be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114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human blood groups (A, B, AB, and O) differ in the external carbohydrates on red blood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bohydrates are not inserted into the membrane -- they are too hydrophilic for that. They are attached to embedded proteins -- glyco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bohydrates are not inserted into the membrane -- they are too hydrophilic for that. They are attached to embedded proteins -- glyco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5264-E279-4755-9122-4C329D4F16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76C1-1721-4DD8-9687-AC1782AB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1C02-1FF4-4619-8EBA-D26B5A4F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AD05-EFB2-4C50-A7BB-23068CD29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3065-83D1-464A-8C09-57C122D1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EB5F-B398-4DE3-A473-0D20C075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C603-55E4-462F-89B2-F6F1FFDC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61E9-0ECB-4A15-864F-011F693F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287A-EDB4-4368-8FC7-5782042D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9F35-FB69-492A-A012-31E9F953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F78F-0B59-45C1-BD1A-CD1C5227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100E-4BC5-4F20-AF84-5C4EC029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303A-168C-4CE5-BF60-7F1D9DD8361D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3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60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8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Cell Membrane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3500" t="0" r="27000" b="13187"/>
          <a:stretch/>
        </p:blipFill>
        <p:spPr>
          <a:xfrm>
            <a:off x="6477120" y="457200"/>
            <a:ext cx="26668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tegral Protei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3543480"/>
            <a:ext cx="3886200" cy="3238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in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obic regions with nonpolar amino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ten coiled into alpha helic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uter surfaces of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ilic region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ith polar amino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side &amp; outside surfaces are differ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08560" y="1752480"/>
            <a:ext cx="383544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layers may differ in lipid composi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eins in membrane have a dire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surface also has carbohydra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Membranes provide a variety of cell function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3991"/>
          <a:stretch/>
        </p:blipFill>
        <p:spPr>
          <a:xfrm>
            <a:off x="1143000" y="1523880"/>
            <a:ext cx="70866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luid membran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rmeabil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mbrane must be fluid, about as fluid as salad oi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anging temperatur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ells alter lipid composition of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ld-adapted organism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inter wheat increases % unsaturated phospholipids in autum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event membranes from solidifying during wint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saturated fa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re fluid membran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kinks in unsaturated fatty acid tails prevent tight pack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48844" r="51838" b="9361"/>
          <a:stretch/>
        </p:blipFill>
        <p:spPr>
          <a:xfrm>
            <a:off x="2438280" y="3389400"/>
            <a:ext cx="43419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mbrane carbohydrat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lay a key role in cell-cell recogni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bility of a cell to distinguish neighboring cells from anoth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mportant in organ &amp; tissue develop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asis for rejection of foreign cells by immune sy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membrane is a collage of different proteins embedded in the fluid matrix of the lipid bilayer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1263" r="0" b="4675"/>
          <a:stretch/>
        </p:blipFill>
        <p:spPr>
          <a:xfrm>
            <a:off x="838080" y="1708200"/>
            <a:ext cx="75596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lasma membrane separates living cell from nonliving surrounding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in barrier = 8nm thick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rols traffic into &amp; out of the cel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selectively permeab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ing some substances to cross more easily than othe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de of phospholipids, proteins &amp; other macro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atty acid tails are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hydrophob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ate  group form a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hydrophilic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hea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teraction with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is comple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very importan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32674" b="8999"/>
          <a:stretch/>
        </p:blipFill>
        <p:spPr>
          <a:xfrm>
            <a:off x="4495680" y="1600200"/>
            <a:ext cx="4599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in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 surface of a cell phospholipids are arranged as a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bilay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hydrophi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heads on the outside in contact with aqueous solution &amp;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hydrophob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tails form co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spholipid bilayer forms a barrier between cell &amp; external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9604" t="49203" r="1060" b="7200"/>
          <a:stretch/>
        </p:blipFill>
        <p:spPr>
          <a:xfrm>
            <a:off x="2666880" y="4267080"/>
            <a:ext cx="42354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luid Mosaic Model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45845" t="0" r="0" b="13564"/>
          <a:stretch/>
        </p:blipFill>
        <p:spPr>
          <a:xfrm>
            <a:off x="2440080" y="2962440"/>
            <a:ext cx="4578120" cy="3438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 1972, S.J. Singer &amp; G. Nicolson proposed that membrane proteins are inserted into the phospholipid bilay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membrane is a collage of different proteins embedded in the fluid matrix of the lipid bilayer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1263" r="0" b="4675"/>
          <a:stretch/>
        </p:blipFill>
        <p:spPr>
          <a:xfrm>
            <a:off x="838080" y="1708200"/>
            <a:ext cx="75596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mbrane Protei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teins determine most of membrane’s specific function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lasma membrane &amp; organelle membranes each have unique collections of protein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embrane proteins: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peripheral protei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loosely bound to surface of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integral protei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penetrate into lipid bilayer, often completely spanning the membrane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(a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ransmembran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rotein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3120" y="3543480"/>
            <a:ext cx="3886200" cy="3238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are proteins the perfect molecule to function embedded in the cell membran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0" b="4515"/>
          <a:stretch/>
        </p:blipFill>
        <p:spPr>
          <a:xfrm>
            <a:off x="1676520" y="3211560"/>
            <a:ext cx="6400800" cy="3646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0" r="0" b="5487"/>
          <a:stretch/>
        </p:blipFill>
        <p:spPr>
          <a:xfrm>
            <a:off x="1600200" y="316080"/>
            <a:ext cx="653256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4-10-04T04:26:44Z</cp:lastPrinted>
  <dcterms:modified xsi:type="dcterms:W3CDTF">2004-10-05T01:36:21Z</dcterms:modified>
  <cp:revision>378</cp:revision>
  <dc:subject>Introduction to the Internet &amp; Web sites</dc:subject>
  <dc:title>Small Business Success on the Web</dc:title>
</cp:coreProperties>
</file>